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F225-0D24-4B16-AA26-AD5984B83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047A-DCF5-4B04-9426-9E7BD3A1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1095-ED8D-4895-B65D-3F359496F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DACA-6101-45BF-B1DC-FC7810165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A6BD-807C-4729-ACE9-4087C5395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A506-6F84-4424-9A2F-9A3449F7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AC35-D8E2-4D38-B3E7-1D1067EC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8E9E-6838-4B68-929C-90E201512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EDCC-798B-4C67-A32B-34E5DA10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A447-6DC0-4146-BF46-59F500E9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0438-9854-4EA6-BC27-A91182BA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D561-FF73-469E-92E6-F63052CC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30B2-2631-4D8A-AA9B-D4EE07EE46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 Svätý, svätý, svät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ätý, svätý, svät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h všemohúc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ieseň chvály vznáša s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nebies výši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ätý, svätý, svät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čne kraľujúci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láskavý Otec,</a:t>
            </a:r>
            <a:br>
              <a:rPr sz="47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orca náš a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ätý, svätý, svät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úchvatné chór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lásky tebe, Vševládn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lu vzdávajú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ätý, svätý, svät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etkých svetov tvor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d tebou v úct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sa skláňajú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ätý, svätý, svät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h trojjedi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áľu náš a Záchranc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jný v mil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ätý, svätý, svät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ly hlas prijm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ud tvoj ťa vzýv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iesňou vďačnosti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19:21:41Z</dcterms:modified>
  <cp:revision>8</cp:revision>
  <dc:subject/>
  <dc:title>Je veľký náš Pán, on slávy je Kráľ Nech do všetkých strán  spev vrúcnych znie chvál.</dc:title>
</cp:coreProperties>
</file>